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11134"/>
        <c:axId val="63781881"/>
      </c:barChart>
      <c:catAx>
        <c:axId val="14111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81881"/>
        <c:crosses val="autoZero"/>
        <c:auto val="1"/>
        <c:lblAlgn val="ctr"/>
        <c:lblOffset val="100"/>
        <c:noMultiLvlLbl val="0"/>
      </c:catAx>
      <c:valAx>
        <c:axId val="63781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11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4B8-F083-434C-B50A-6605D850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6014-CE55-4465-9625-1F93B512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7AC-AE80-4FA8-85FF-DE74298D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BCA0-8F4A-41A0-81A3-AABBB9E2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845-4480-4B96-8DD0-2621BC7D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728-46BB-4E0A-9E16-62EF9284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F26-2892-48DC-821B-45013D9D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452F-3BAE-4A8D-8061-1A7BA0C9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A0A-2F6C-4C43-81FC-B2B55F88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43BD-7E6E-48F5-828F-6BC6F819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E966-BE36-4B30-9AF9-145C0DA2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5CC-947D-497D-A3DB-2387D451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316D7-F02E-481C-B3F1-7973744C3B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