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57224"/>
        <c:axId val="63743685"/>
      </c:barChart>
      <c:catAx>
        <c:axId val="73557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43685"/>
        <c:crosses val="autoZero"/>
        <c:auto val="1"/>
        <c:lblAlgn val="ctr"/>
        <c:lblOffset val="100"/>
        <c:noMultiLvlLbl val="0"/>
      </c:catAx>
      <c:valAx>
        <c:axId val="63743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57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704-EF07-4EFC-A089-66798602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D1C-4314-4B0E-BA4B-20BC850A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B08-E3EC-4B98-8269-EB5E7359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979-8F70-42B6-B101-E25575A6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A69-1BBE-4506-947E-FDD3916E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53F-353F-4ED4-969A-C50D15BA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77A-4BAA-40EF-BB04-5EA2C7C5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093-DB3E-4518-9390-26647BF1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300-4982-46C1-9BE2-1EE68A12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CE8-0A2A-4185-B336-85B2444D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299-C2B0-4684-AE68-539A58A7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D38-E4C3-4C7E-857D-BD4ECDC9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2A68C-E44F-4BF3-A6E4-D13A560763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